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F56-5CF9-4883-AE43-798BA0F8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F2D6-6E8D-4483-ADE2-DF67DAF4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64B0-0613-4091-BFAE-48E1FE75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06E-AEE9-4F74-8DE3-10A25885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E23-C4EC-4FAC-AB6A-96477791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895-B45E-460D-8E47-E73FAE64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8629-4F4E-43E4-92CC-F7109FE0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DB3-8494-479F-9F58-A3629E1A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2670-FE4E-49AF-A5BB-757F3E20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9A2C-CB0A-4827-B9A4-3F147FA5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9CC-F76A-49E6-8412-46BE1837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81CB-7C01-45DD-BA13-C3C679DA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2175-10E3-41A6-9CC5-DE7899A9E5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4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6" descr=""/>
          <p:cNvPicPr/>
          <p:nvPr/>
        </p:nvPicPr>
        <p:blipFill>
          <a:blip r:embed="rId3"/>
          <a:stretch/>
        </p:blipFill>
        <p:spPr>
          <a:xfrm>
            <a:off x="378000" y="476280"/>
            <a:ext cx="8285040" cy="27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http://razorpix.ru/s/37/doroga_protektor_zima_sneg_nast_alleya_solnce_nebo_tuchi_1920x128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http://xn----ftbebqosbgnd.xn--p1ai/uploads/posts/2012-06/1340371940_sosulki-62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http://www.tmfoto.ru/upload/iblock/78f/78f2e9d7aa9231751ed8d0ac220922a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vedtver.ru/data/uploads/2013-01/page/14659/130123pogoda.jpg"/>
          <p:cNvPicPr/>
          <p:nvPr/>
        </p:nvPicPr>
        <p:blipFill>
          <a:blip r:embed="rId2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http://img-fotki.yandex.ru/get/5208/geteway.6/0_5028b_afa1378d_X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09Z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-162000"/>
            <a:ext cx="9144000" cy="7020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028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ый снег пушис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воздухе круж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 землю тих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дает, лож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д утро сне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е забеле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но пеленою все его оде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ный лес, что шап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акрылся чу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заснул под не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хо, непробудно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3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5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Объект 3" descr="http://www.fonstola.ru/pic/201112/800x600/fonstola.ru-6485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http://www.fonstola.ru/pic/201111/1024x768/fonstola.ru-4935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4:12:21Z</dcterms:created>
  <dc:creator>USER</dc:creator>
  <dc:description/>
  <dc:language>en-US</dc:language>
  <cp:lastModifiedBy>Пользователь Windows</cp:lastModifiedBy>
  <dcterms:modified xsi:type="dcterms:W3CDTF">2020-12-03T09:40:09Z</dcterms:modified>
  <cp:revision>37</cp:revision>
  <dc:subject/>
  <dc:title>Слайд 1</dc:title>
</cp:coreProperties>
</file>